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8FDE0-BA44-4D07-8FF0-05B991721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84DEE-983D-4D18-8815-A2218033B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89F28-FA5D-4D55-A944-295FC30C8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823BF-2527-4FD2-9D2E-2DA5DCE72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D8792-B864-42C7-AE6B-554B3F5A8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24C95-DFCD-4CFC-8CC9-CACFC079E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BCF25-5BF1-4507-B197-3BE5DB100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F08E8-98A6-4943-849C-0CBD6F356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15BE3-1F1A-49D4-92A0-94CAA6B03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CBB05-E288-445D-9FA0-EEE9AC923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9CB33-78A1-493D-AC83-5CAD75416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482E4-5440-40F0-AB4F-78B15002B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5E3DE-50CB-441F-97F7-3CA44C35B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F0404-1FEE-418A-8386-C5D194351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3532C-5A6D-41A6-85BC-B1D342407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0D68A-91AF-4D85-8BD3-988BDCEF5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D0A47-FC5B-462B-B781-F0BA5AF14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70E01-1196-408A-8B06-2F89D0101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CA6CA-4E95-4731-996C-F2A388AF6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74BE0-06E1-49D0-AF37-D2AEA3F62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632E7-50C1-453C-8AE2-142959B26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0BFD-C87F-4AA5-B949-F9CCD29F8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EF72C-8554-4942-888D-B33AD1838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3437-4554-454C-902E-D511ACDB5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6975-A883-47EB-8B7D-AA9918560CC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7E7B-21D3-4582-AC1D-020ED1E8424E}"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etc.usf.edu/clipart/16100/16161/reading_16161_lg.gif&amp;imgrefurl=http://etc.usf.edu/clipart/16100/16161/reading_16161.htm&amp;h=594&amp;w=700&amp;sz=81&amp;tbnid=VpS0emKVTinPUM:&amp;tbnh=119&amp;tbnw=140&amp;prev=/images%3Fq%3Dchildren%2Breading%2Bclipart&amp;hl=en&amp;usg=__yIFj9d4WH4dacJOOxRtp3i9lk5s=&amp;ei=yuHLSvPXGIallAep6KHaBQ&amp;sa=X&amp;oi=image_result&amp;resnum=3&amp;ct=image"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mic Sans MS"/>
              </a:rPr>
              <a:t>Parent Involvement and Academic Achievement</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1" name="PlaceHolder 2"/>
          <p:cNvSpPr>
            <a:spLocks noGrp="1"/>
          </p:cNvSpPr>
          <p:nvPr>
            <p:ph/>
          </p:nvPr>
        </p:nvSpPr>
        <p:spPr>
          <a:xfrm>
            <a:off x="685440" y="1828800"/>
            <a:ext cx="377820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Susan Campbell</a:t>
            </a:r>
            <a:endParaRPr b="0" lang="en-US" sz="36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EDU 702.22</a:t>
            </a:r>
            <a:r>
              <a:rPr b="0" lang="en-US" sz="36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52" name="PlaceHolder 3"/>
          <p:cNvSpPr>
            <a:spLocks noGrp="1"/>
          </p:cNvSpPr>
          <p:nvPr>
            <p:ph/>
          </p:nvPr>
        </p:nvSpPr>
        <p:spPr>
          <a:xfrm>
            <a:off x="4647960" y="1676520"/>
            <a:ext cx="377820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Sharon Glasgow</a:t>
            </a:r>
            <a:endParaRPr b="0" lang="en-US" sz="36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Fall 2009</a:t>
            </a:r>
            <a:endParaRPr b="0" lang="en-US" sz="3600" spc="-1" strike="noStrike">
              <a:solidFill>
                <a:srgbClr val="000000"/>
              </a:solidFill>
              <a:latin typeface="Comic Sans MS"/>
            </a:endParaRPr>
          </a:p>
        </p:txBody>
      </p:sp>
      <p:pic>
        <p:nvPicPr>
          <p:cNvPr id="153" name="" descr="http://etc.usf.edu/clipart/16100/16161/reading_16161.htm"/>
          <p:cNvPicPr/>
          <p:nvPr/>
        </p:nvPicPr>
        <p:blipFill>
          <a:blip r:embed="rId1"/>
          <a:stretch/>
        </p:blipFill>
        <p:spPr>
          <a:xfrm>
            <a:off x="0" y="0"/>
            <a:ext cx="1047600" cy="895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Comic Sans MS"/>
              </a:rPr>
              <a:t>Table of Contents</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Introduction</a:t>
            </a:r>
            <a:endParaRPr b="0" lang="en-US" sz="3200" spc="-1" strike="noStrike">
              <a:solidFill>
                <a:srgbClr val="000000"/>
              </a:solidFill>
              <a:latin typeface="Comic Sans MS"/>
            </a:endParaRPr>
          </a:p>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Statement of the Problem</a:t>
            </a:r>
            <a:endParaRPr b="0" lang="en-US" sz="3200" spc="-1" strike="noStrike">
              <a:solidFill>
                <a:srgbClr val="000000"/>
              </a:solidFill>
              <a:latin typeface="Comic Sans MS"/>
            </a:endParaRPr>
          </a:p>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Review of Literature</a:t>
            </a:r>
            <a:endParaRPr b="0" lang="en-US" sz="3200" spc="-1" strike="noStrike">
              <a:solidFill>
                <a:srgbClr val="000000"/>
              </a:solidFill>
              <a:latin typeface="Comic Sans MS"/>
            </a:endParaRPr>
          </a:p>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Statement of the Hypothesis</a:t>
            </a:r>
            <a:endParaRPr b="0" lang="en-US" sz="3200" spc="-1" strike="noStrike">
              <a:solidFill>
                <a:srgbClr val="000000"/>
              </a:solidFill>
              <a:latin typeface="Comic Sans MS"/>
            </a:endParaRPr>
          </a:p>
        </p:txBody>
      </p:sp>
      <p:pic>
        <p:nvPicPr>
          <p:cNvPr id="156" name=""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315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Statement of the Problem</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law recognizes that parents are their children’s first and most important teachers. If children are to be successful in school parents must participate actively in their children’s academic lives. In this research project, we will attempt to prove that by increasing parental involvement in their child’s academic life, the child’s grades and overall academic achievement will be improved. Parent involvement for the purpose of this research includes reading to the child for a minimum of three times per week, assisting with homework daily, and attending parent / teacher conferences.</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pic>
        <p:nvPicPr>
          <p:cNvPr id="159" name=""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view of Literature</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2" name=""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4642"/>
                </a:solidFill>
                <a:latin typeface="Comic Sans MS"/>
              </a:rPr>
              <a:t>Review of Hypothesis</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ough this research, we will provide evidence to prove that parental involvement in a child’s academic life will have a positive improvement on that child’s grades and overall performance in school.</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603360" indent="-60336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6th Grade classes of 25 students in a Brooklyn public school will be assessed. </a:t>
            </a:r>
            <a:endParaRPr b="0" lang="en-US" sz="2800" spc="-1" strike="noStrike">
              <a:solidFill>
                <a:srgbClr val="000000"/>
              </a:solidFill>
              <a:latin typeface="Comic Sans MS"/>
            </a:endParaRPr>
          </a:p>
        </p:txBody>
      </p:sp>
      <p:pic>
        <p:nvPicPr>
          <p:cNvPr id="165" name="" descr="http://etc.usf.edu/clipart/16100/16161/reading_16161.htm">
            <a:hlinkClick r:id="rId1"/>
          </p:cNvPr>
          <p:cNvPicPr/>
          <p:nvPr/>
        </p:nvPicPr>
        <p:blipFill>
          <a:blip r:embed="rId2"/>
          <a:stretch/>
        </p:blipFill>
        <p:spPr>
          <a:xfrm>
            <a:off x="0" y="0"/>
            <a:ext cx="1047600" cy="89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Comic Sans MS"/>
              </a:rPr>
              <a:t>Reading Changes Lives</a:t>
            </a:r>
            <a:endParaRPr b="0" lang="en-US" sz="4400" spc="-1" strike="noStrike">
              <a:solidFill>
                <a:srgbClr val="000000"/>
              </a:solidFill>
              <a:latin typeface="Comic Sans MS"/>
            </a:endParaRPr>
          </a:p>
        </p:txBody>
      </p:sp>
      <p:pic>
        <p:nvPicPr>
          <p:cNvPr id="167" name="" descr="http://etc.usf.edu/clipart/16100/16161/reading_16161.htm">
            <a:hlinkClick r:id="rId1"/>
          </p:cNvPr>
          <p:cNvPicPr/>
          <p:nvPr/>
        </p:nvPicPr>
        <p:blipFill>
          <a:blip r:embed="rId2"/>
          <a:stretch/>
        </p:blipFill>
        <p:spPr>
          <a:xfrm>
            <a:off x="155520" y="46080"/>
            <a:ext cx="1047960" cy="895320"/>
          </a:xfrm>
          <a:prstGeom prst="rect">
            <a:avLst/>
          </a:prstGeom>
          <a:ln w="0">
            <a:noFill/>
          </a:ln>
        </p:spPr>
      </p:pic>
      <p:pic>
        <p:nvPicPr>
          <p:cNvPr id="168" name="" descr="Butterfly And Flowers Clipart"/>
          <p:cNvPicPr/>
          <p:nvPr/>
        </p:nvPicPr>
        <p:blipFill>
          <a:blip r:embed="rId3"/>
          <a:stretch/>
        </p:blipFill>
        <p:spPr>
          <a:xfrm>
            <a:off x="3276720" y="2362320"/>
            <a:ext cx="251460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0:00:42Z</dcterms:created>
  <dc:creator>1b-9</dc:creator>
  <dc:description/>
  <dc:language>en-US</dc:language>
  <cp:lastModifiedBy>1e-5</cp:lastModifiedBy>
  <dcterms:modified xsi:type="dcterms:W3CDTF">2009-10-08T21:26:25Z</dcterms:modified>
  <cp:revision>10</cp:revision>
  <dc:subject/>
  <dc:title>Slide 1</dc:title>
</cp:coreProperties>
</file>